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BE11-AC99-4A6D-A679-47330F155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E0E2-0777-4EC5-9D37-6963116EFC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2B73-4522-41B4-B636-F3C80DDB18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F3CB-4266-4A7F-B395-BD0AA148D3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629B-F235-4931-9DD2-68618FE541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17CD-D031-44D4-AD44-C177AE6567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9C4D-99F0-4C1A-B1B0-D62C7616C4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E62F-F256-46CE-852A-2889CFA14C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CE33-4494-4A76-AC54-7AE11C09BA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E93A-8119-4F0C-A19D-BAAB0DE2A6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C41A-28DD-403D-8737-AFAAF9F390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85893-F01E-4FFC-95EF-536C8D99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E3B9-D102-48DC-AC56-4AFDAAFE13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4F38E-8E91-4037-87DA-18ACE5FD6A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14EF5-A6B4-4E2C-9E42-EF58F9F6E6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A7CEB-4436-48EC-8C37-24ACD3A9EE3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D345F-A7CF-4D6D-A176-A99CAE66B8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6F6B0-AEB9-40AD-B23A-04377C1BA9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B0C2A-3E2B-40A7-84DE-B003C6BE5C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4CC5F-BFF6-4042-8328-A3CB399987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ED0E6-509A-49DE-93D5-F575E4F072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6B44F-6761-44E1-8886-38A3FA0AE3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5D83B-1739-4634-8FEF-A28B2AF4B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DA46-0481-4F32-A08F-AB2ED7B200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872C1-6462-4DD8-BA3F-113BBB31C2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12DDC-928D-40E9-868C-33B00952D7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6976C-E997-4B7A-A7D9-EBB6A39EE7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61561-A17D-485E-8C2E-2BE605FFFB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D9E30-D4AF-437E-A0E4-90C19DBEAF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E7418-45BE-43D0-8AA6-7150CCA806F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04C16-84AC-46D9-87D2-80FBD126564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D4FAE-A0BB-4F37-A626-22F430F8FB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1C8C4-4947-4FCB-901E-5BD8015C97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6C10B-EABD-4990-BDF7-3749AF97B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975A-9F53-4E73-927F-138FA83823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66746-4603-4662-B6A7-AA2ADFEEAC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24C89-0C2D-4E13-A3A6-7954C5A236F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5043E-211E-400C-BF9C-FB9F2D7AE47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A69B-BE6F-45B7-803E-5795C6AB95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4DCD-5D1E-46FB-B36C-F85ED7AF0C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12AC1-CF18-4743-9BD1-B4BFC290A0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38C8-BBCF-433D-AD35-70639B4AC14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9F79-C342-49F0-8726-5E63083295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7A91-98C1-40EF-AB06-E4918CE211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5567-523D-41FD-BBEA-94EF5AFAF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65C6-8E51-498F-AF41-F0DD2091270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8B33-4F01-4C94-95BB-FC8930F9FF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73BE-6A1B-4340-80AF-36C0947DC2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B8B5-919B-4C2F-8361-D619D202A3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42C55-8611-4C59-9197-13364D02A7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4E95-6C55-49D3-8D9E-B6BD604223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F201-2C68-42D0-BDD0-58F1C8121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17FD-42A7-4548-9040-F776754900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053F-B7A4-4282-8A32-F2E8D1C8A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73E5-C9A6-43EC-AF3D-A713C127D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CBD1-2CFB-45B0-A6D0-2CDFC6058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E270-4908-40EB-A340-BA207B3CF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1387-7C35-43EF-91BF-0CED1DADCF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C215-F523-4625-A0D8-28FCCAD699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1987-30E5-46B7-AA40-C75FE8E4A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FE72-3265-4B74-A529-3C9F57BCB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D268-BE83-49F8-83DE-C381C012E4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0CE-4447-4C3C-AD48-B94BAFE42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4C0-EC42-48FA-B7E6-BE136DD06A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314-CA12-4FDA-9836-5B96EEC4D2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D26-BF06-414D-850F-0FC8872C5F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A5B-6F43-4D39-A1D0-D55642992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D685-8902-474C-897F-5E8B5466C7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36D-4981-4781-813D-EFBD473EA3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B21-DA70-4C08-B036-F870152C8E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D11-C016-4C7C-967A-3C89BBE71D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AB9-E142-4CB0-B28B-1D21E58F59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FB5-96DF-411D-96F9-6005526FBC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14E-2D19-4307-9EB3-9BD596916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F67-6EBD-43DA-B044-8A1E656657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A69E9-E8B5-4D99-842B-F81D93CD13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B44A5-D23F-4D79-98C4-FEF8FF9055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3D9E2-ACE3-4C0E-A385-3FFB432B1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EC7A-3CA6-42DF-A334-4BDB91DF6E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F6B69-3BEC-486A-9FC4-4D8ADD7759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B702E-C9FF-4C49-B203-A2BB218821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35AB-C431-4189-9D78-93E62AB936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0784D-158C-4DEC-A5DC-0BC49816A5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66F18-80F8-40D5-8359-61AF898BC5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CB2D6-5D19-4AA9-B46A-6BD1908581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9B2C1-8057-4202-A6C4-91C5162D17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64A61-CB1E-440C-8CFF-47C27187B0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1697A-3F78-40F5-AF1F-8D086BC304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8D21B-20FC-4444-8F30-0B1BC6732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4FA2-CF9F-4D3F-AD3E-4C633C4606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29818-B888-46E6-A427-0479C09B3A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05902-D78D-4C06-A140-9D2D1E95520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29570-C9DE-4ECF-8BC7-A220115657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F7FB-15BB-432B-88A3-EE50B11B0D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3B8E9-9573-41D8-BB4F-E1F049B3A9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BEBB-6341-46B1-A972-624F7447A0D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F41DF-EEA2-4E13-ABCF-92A22A349E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37CB2-18DC-4932-996D-AC3990DD320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2B469-23A0-4589-A6C6-3A0E3C4431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F51F-8678-4359-8136-2B0950970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085E-48BD-4E1D-B103-E3AC0B0007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561D9-2ECF-4ADF-A37E-887542A267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F6E2-3FC7-4167-BB79-2543EDE34A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B64-9288-4AF7-806D-B66AE81642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1D1-2769-4CF3-85FF-71BF9798A7C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A38-5F00-439A-9A14-4A53660CB2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E5A2-D306-4134-9F76-D518D33CC8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BD86-FA37-43D1-8FAF-76549BA87EB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BF8-569F-46B3-87E9-EB3F6FE63A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CCF7-1D8E-4828-B7DD-58A87D8869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353F-708F-4BD6-992D-481B23AFA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612E-DABB-45CF-99E1-B56D6117F29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BE1C-87CF-4602-B7A0-4D8FA1D0CC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1AA4-1878-4956-8D39-801649834C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7EB7-FC50-4197-8B44-1215EF9412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97D3D-2EE8-4E0F-91BD-B340B821B0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88C95-6BCF-4E08-AF65-0B0FE1B6B1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DC093-261E-4689-B47F-5021C08D63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8DA5C-52B6-4618-8C92-ECA7D2F966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63285-EFF4-4ADE-A76E-61894CD7D1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5F2AB-45BB-448A-B646-E0617A16C1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2FA7C-D45F-4F46-84A4-EE27AD5E9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E4FA-37BD-487F-AB56-C29A6D0437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3D445-0B2C-4ACE-A642-2CF4E3CF35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D53D4-7F10-44E2-903D-8311491144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458BF-01DA-414C-AB0D-6473541AE8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0CE6E-295A-4203-9C16-E366BDEDF0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A2FA7-91FB-4476-B5CA-70AA9A7DF5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7826E-EE37-4A36-9879-E337DC368E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49C88-7031-4DEE-AC45-2E3EFDD72B2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C769F-9943-4EEE-A9D5-97620FCF0BA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E8CBA-B9B9-4819-B600-76FA23B62C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A7DBF-195D-4A68-987E-01EC98AAF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5208-F746-4A8D-9BAE-EB60583973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86960" y="2386080"/>
            <a:ext cx="11426760" cy="134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14E59-4C4C-44B8-A019-AC044AE7CE4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56420-BB77-476A-8C1E-45FCD9AF80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FC70B-8691-4770-AEC3-48B83D5AAC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BE10B-7D50-4077-B027-9AB0978DF0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86960" y="7741800"/>
            <a:ext cx="1142676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52533-E53D-4BA4-9B1C-AED6050DEF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42360" y="539748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869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642360" y="7741800"/>
            <a:ext cx="557604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961C5-DE7D-44DD-9E2B-043A495EB3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48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514000" y="539748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8696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65048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8514000" y="7741800"/>
            <a:ext cx="3679200" cy="21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BE10F-1A93-44F4-ACEB-7CFF92120DB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C986-8BF3-48C8-BBF3-D594B692C9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55EB-46FE-46BC-A883-F4B62E9B6E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FD9B-97DC-4481-9676-A3D5535C1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23860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5397480"/>
            <a:ext cx="11426760" cy="448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99280" y="9258120"/>
            <a:ext cx="3888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CE0AD-8B77-4AA2-B53E-73445A4D39F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10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71EA8-D6A3-4715-B978-B612CA543E2D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11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5A667-E8D3-45BD-9B75-A51816CFCF09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270080" y="193680"/>
            <a:ext cx="10461600" cy="1012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4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4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1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A6DB0-0E12-4217-BE7D-57352BDBDFF1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70080" y="2009880"/>
            <a:ext cx="10461600" cy="78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1AFF2-DFA6-485B-91F8-C5256EB87116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6960" y="3568680"/>
            <a:ext cx="11426760" cy="290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F6168-C67E-46D5-9252-D92059495AAE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6960" y="7180200"/>
            <a:ext cx="11426760" cy="24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Num" idx="4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92DBE-1952-4EE0-B295-FF3A79420264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0" y="0"/>
            <a:ext cx="13001760" cy="9750600"/>
            <a:chOff x="0" y="0"/>
            <a:chExt cx="13001760" cy="9750600"/>
          </a:xfrm>
        </p:grpSpPr>
        <p:pic>
          <p:nvPicPr>
            <p:cNvPr id="15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1760" cy="97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1400" cy="60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600" y="1717200"/>
            <a:ext cx="6245280" cy="357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5280" cy="127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343080" indent="-34308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343080" indent="-34308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6299280" y="9258120"/>
            <a:ext cx="388800" cy="3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1D75E-5A67-46D4-9DD0-56A0BFC1A01C}" type="slidenum">
              <a:rPr b="0" lang="en-US" sz="1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11800-F90E-40A5-9B87-B9AD4B2C77C7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70080" y="3124080"/>
            <a:ext cx="10461600" cy="79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7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75B63-9A91-40C3-A60E-6B3334A2B7C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47560" y="-10933560"/>
            <a:ext cx="4632120" cy="337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8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196CA-9A32-437C-9408-880C19061445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66960" y="1241280"/>
            <a:ext cx="9267840" cy="205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051760" y="-12095640"/>
            <a:ext cx="3679920" cy="3609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33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43080" indent="-343080">
              <a:spcBef>
                <a:spcPts val="33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9"/>
          </p:nvPr>
        </p:nvSpPr>
        <p:spPr>
          <a:xfrm>
            <a:off x="12281040" y="8940600"/>
            <a:ext cx="4363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B0ADC-ACD2-4495-928F-138641FEA97A}" type="slidenum">
              <a:rPr b="0" lang="en-US" sz="24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7DA05-5C61-402C-AA4C-43D745A7BC6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3920" y="2611080"/>
            <a:ext cx="11430000" cy="394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Elements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of the</a:t>
            </a:r>
            <a:br>
              <a:rPr sz="8400"/>
            </a:br>
            <a:r>
              <a:rPr b="1" lang="en-US" sz="8400" spc="-1" strike="noStrike">
                <a:solidFill>
                  <a:srgbClr val="d7e2ee"/>
                </a:solidFill>
                <a:latin typeface="Stone Sans ITC TT-Semi"/>
              </a:rPr>
              <a:t>Periodic Table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7C38A-9DEF-460D-9298-1CD2C5256AB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2"/>
          <a:stretch/>
        </p:blipFill>
        <p:spPr>
          <a:xfrm>
            <a:off x="5726160" y="349236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3"/>
          <a:stretch/>
        </p:blipFill>
        <p:spPr>
          <a:xfrm>
            <a:off x="6097680" y="8001000"/>
            <a:ext cx="5535360" cy="1104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4800600" y="3784680"/>
            <a:ext cx="96516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2EE25-FD16-4902-83A4-CDD1FCEE43AA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6500880" y="3503520"/>
            <a:ext cx="6973920" cy="4280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3"/>
          <a:stretch/>
        </p:blipFill>
        <p:spPr>
          <a:xfrm>
            <a:off x="1346040" y="6672240"/>
            <a:ext cx="5535720" cy="1104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4"/>
          <a:stretch/>
        </p:blipFill>
        <p:spPr>
          <a:xfrm>
            <a:off x="419040" y="3782880"/>
            <a:ext cx="96516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9C84-9518-4A0C-9B02-3A25722A2B0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9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75D33-653E-43A4-8E03-8C6F9E8440D2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0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N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most are gases at room temperature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4863960" y="3492360"/>
            <a:ext cx="8013960" cy="4446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787320" y="6058080"/>
            <a:ext cx="379728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1" lang="en-US" sz="36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7</a:t>
            </a: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are diatomic molecules</a:t>
            </a: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46" name="Picture 6" descr=""/>
          <p:cNvPicPr/>
          <p:nvPr/>
        </p:nvPicPr>
        <p:blipFill>
          <a:blip r:embed="rId4"/>
          <a:stretch/>
        </p:blipFill>
        <p:spPr>
          <a:xfrm>
            <a:off x="4863960" y="4406760"/>
            <a:ext cx="6570720" cy="26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C31ED-0BA8-46C0-88C5-DB6AE058F7E6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3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E4A2F-50D4-425B-BEEF-27225F4C6C7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814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n additiona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6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ransition-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F0A0F-BE4F-47B1-ADF0-D533491CC580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Good conductor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f heat &amp;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ctricity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787320" y="7289640"/>
            <a:ext cx="3797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Lustrou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shiny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01DAB-7297-47F9-85DF-6A43C3ED6DBE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375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d7e2ee"/>
                </a:solidFill>
                <a:uFillTx/>
                <a:latin typeface="Stone Sans ITC TT-Semi"/>
              </a:rPr>
              <a:t>Met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Malleabl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(pound into sheets)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3"/>
          <a:stretch/>
        </p:blipFill>
        <p:spPr>
          <a:xfrm>
            <a:off x="4863960" y="3817800"/>
            <a:ext cx="7988400" cy="4106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"/>
          <p:cNvPicPr/>
          <p:nvPr/>
        </p:nvPicPr>
        <p:blipFill>
          <a:blip r:embed="rId4"/>
          <a:stretch/>
        </p:blipFill>
        <p:spPr>
          <a:xfrm>
            <a:off x="5600880" y="3983040"/>
            <a:ext cx="7264080" cy="53006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6"/>
          <p:cNvSpPr/>
          <p:nvPr/>
        </p:nvSpPr>
        <p:spPr>
          <a:xfrm>
            <a:off x="787320" y="6388200"/>
            <a:ext cx="379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•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Ductil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(draw into wires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E3065-89BB-4853-84BA-80747FC3A7B9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Stone Sans ITC TT-Semi"/>
                <a:ea typeface="Stone Sans ITC TT-Semi"/>
              </a:rPr>
              <a:t>7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of the known elements ar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DFFDB-349A-41C6-9231-460FADC75D35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properties of both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Non-Metal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7108E-3018-40C4-A590-045B741635C1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What is an element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an you name 5 of them?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07F83-094C-4AFE-9C33-6DD7B7BC900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787320" y="3073320"/>
            <a:ext cx="3797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Metalloid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are used in semi-conducto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for computers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ie: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  <a:ea typeface="Stone Sans ITC TT-Semi"/>
              </a:rPr>
              <a:t>Silicon (Si)</a:t>
            </a:r>
            <a:endParaRPr b="0" lang="en-US" sz="48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3"/>
          <a:stretch/>
        </p:blipFill>
        <p:spPr>
          <a:xfrm>
            <a:off x="9283680" y="3657600"/>
            <a:ext cx="35989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C6ACD-CDEA-4667-9E47-7811306E5F24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90640" y="3223800"/>
            <a:ext cx="11430000" cy="318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"/>
              </a:rPr>
              <a:t>An element is any substance that can not be broken down into simpler substances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299DB-51FA-481E-B50F-BBCEAB61417B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36560" y="49320"/>
            <a:ext cx="1143000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11430000" cy="5951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re are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known element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90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found naturally on the earth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Currently,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2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are synthetic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man-mad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410760"/>
                <a:tab algn="l" pos="10134720"/>
                <a:tab algn="l" pos="1085868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EAF45-5D02-40B6-9977-FC16802AAE9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3073320"/>
            <a:ext cx="3797280" cy="741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All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118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of the known elements ar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ganized on the Periodic Table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8D3A3-F8D3-41EA-8691-2542EF9E5377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87320" y="3072960"/>
            <a:ext cx="37972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” means to be repeating at regular interval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9776E-8860-498C-A99E-8CED8FFF0D18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Periodic Table is organize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7 Periods or row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4356000" y="4610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356000" y="50547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356000" y="55119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4356000" y="59691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4356000" y="642636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grpSp>
        <p:nvGrpSpPr>
          <p:cNvPr id="493" name="Group 9"/>
          <p:cNvGrpSpPr/>
          <p:nvPr/>
        </p:nvGrpSpPr>
        <p:grpSpPr>
          <a:xfrm>
            <a:off x="4356000" y="6870600"/>
            <a:ext cx="428760" cy="1711440"/>
            <a:chOff x="4356000" y="6870600"/>
            <a:chExt cx="428760" cy="1711440"/>
          </a:xfrm>
        </p:grpSpPr>
        <p:sp>
          <p:nvSpPr>
            <p:cNvPr id="494" name="AutoShape 10"/>
            <p:cNvSpPr/>
            <p:nvPr/>
          </p:nvSpPr>
          <p:spPr>
            <a:xfrm>
              <a:off x="4356000" y="68706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5" name="AutoShape 11"/>
            <p:cNvSpPr/>
            <p:nvPr/>
          </p:nvSpPr>
          <p:spPr>
            <a:xfrm>
              <a:off x="4356000" y="824220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4356000" y="7353360"/>
            <a:ext cx="428760" cy="1635120"/>
            <a:chOff x="4356000" y="7353360"/>
            <a:chExt cx="428760" cy="1635120"/>
          </a:xfrm>
        </p:grpSpPr>
        <p:sp>
          <p:nvSpPr>
            <p:cNvPr id="497" name="AutoShape 13"/>
            <p:cNvSpPr/>
            <p:nvPr/>
          </p:nvSpPr>
          <p:spPr>
            <a:xfrm>
              <a:off x="4356000" y="735336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4356000" y="8648640"/>
              <a:ext cx="428760" cy="339840"/>
            </a:xfrm>
            <a:prstGeom prst="rightArrow">
              <a:avLst>
                <a:gd name="adj1" fmla="val 48148"/>
                <a:gd name="adj2" fmla="val 77930"/>
              </a:avLst>
            </a:prstGeom>
            <a:solidFill>
              <a:srgbClr val="d7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Bradley Hand ITC TT-Bold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E494-2FE2-4CDD-ACDD-B4793B9D0ED3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... and in  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18 Group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 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or column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The Groups are also called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“</a:t>
            </a: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Families”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 rot="5400000">
            <a:off x="4968720" y="393696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4" name="AutoShape 5"/>
          <p:cNvSpPr/>
          <p:nvPr/>
        </p:nvSpPr>
        <p:spPr>
          <a:xfrm rot="5400000">
            <a:off x="5343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5" name="AutoShape 6"/>
          <p:cNvSpPr/>
          <p:nvPr/>
        </p:nvSpPr>
        <p:spPr>
          <a:xfrm rot="5400000">
            <a:off x="5711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6" name="AutoShape 7"/>
          <p:cNvSpPr/>
          <p:nvPr/>
        </p:nvSpPr>
        <p:spPr>
          <a:xfrm rot="5400000">
            <a:off x="6080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7" name="AutoShape 8"/>
          <p:cNvSpPr/>
          <p:nvPr/>
        </p:nvSpPr>
        <p:spPr>
          <a:xfrm rot="5400000">
            <a:off x="64609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8" name="AutoShape 9"/>
          <p:cNvSpPr/>
          <p:nvPr/>
        </p:nvSpPr>
        <p:spPr>
          <a:xfrm rot="5400000">
            <a:off x="685476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09" name="AutoShape 10"/>
          <p:cNvSpPr/>
          <p:nvPr/>
        </p:nvSpPr>
        <p:spPr>
          <a:xfrm rot="5400000">
            <a:off x="722304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0" name="AutoShape 11"/>
          <p:cNvSpPr/>
          <p:nvPr/>
        </p:nvSpPr>
        <p:spPr>
          <a:xfrm rot="5400000">
            <a:off x="757836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1" name="AutoShape 12"/>
          <p:cNvSpPr/>
          <p:nvPr/>
        </p:nvSpPr>
        <p:spPr>
          <a:xfrm rot="5400000">
            <a:off x="793404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2" name="AutoShape 13"/>
          <p:cNvSpPr/>
          <p:nvPr/>
        </p:nvSpPr>
        <p:spPr>
          <a:xfrm rot="5400000">
            <a:off x="8289720" y="5327640"/>
            <a:ext cx="431640" cy="343080"/>
          </a:xfrm>
          <a:prstGeom prst="rightArrow">
            <a:avLst>
              <a:gd name="adj1" fmla="val 48148"/>
              <a:gd name="adj2" fmla="val 77713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3" name="AutoShape 14"/>
          <p:cNvSpPr/>
          <p:nvPr/>
        </p:nvSpPr>
        <p:spPr>
          <a:xfrm rot="5400000">
            <a:off x="864540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4" name="AutoShape 15"/>
          <p:cNvSpPr/>
          <p:nvPr/>
        </p:nvSpPr>
        <p:spPr>
          <a:xfrm rot="5400000">
            <a:off x="9013680" y="5327640"/>
            <a:ext cx="431640" cy="342720"/>
          </a:xfrm>
          <a:prstGeom prst="rightArrow">
            <a:avLst>
              <a:gd name="adj1" fmla="val 48148"/>
              <a:gd name="adj2" fmla="val 77794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5" name="AutoShape 16"/>
          <p:cNvSpPr/>
          <p:nvPr/>
        </p:nvSpPr>
        <p:spPr>
          <a:xfrm rot="5400000">
            <a:off x="936936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6" name="AutoShape 17"/>
          <p:cNvSpPr/>
          <p:nvPr/>
        </p:nvSpPr>
        <p:spPr>
          <a:xfrm rot="5400000">
            <a:off x="973764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7" name="AutoShape 18"/>
          <p:cNvSpPr/>
          <p:nvPr/>
        </p:nvSpPr>
        <p:spPr>
          <a:xfrm rot="5400000">
            <a:off x="1010592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8" name="AutoShape 19"/>
          <p:cNvSpPr/>
          <p:nvPr/>
        </p:nvSpPr>
        <p:spPr>
          <a:xfrm rot="5400000">
            <a:off x="1047420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19" name="AutoShape 20"/>
          <p:cNvSpPr/>
          <p:nvPr/>
        </p:nvSpPr>
        <p:spPr>
          <a:xfrm rot="5400000">
            <a:off x="10842480" y="44006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0" name="AutoShape 21"/>
          <p:cNvSpPr/>
          <p:nvPr/>
        </p:nvSpPr>
        <p:spPr>
          <a:xfrm rot="5400000">
            <a:off x="11210760" y="3943440"/>
            <a:ext cx="432000" cy="342720"/>
          </a:xfrm>
          <a:prstGeom prst="rightArrow">
            <a:avLst>
              <a:gd name="adj1" fmla="val 48148"/>
              <a:gd name="adj2" fmla="val 77859"/>
            </a:avLst>
          </a:prstGeom>
          <a:solidFill>
            <a:srgbClr val="d7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299280" y="9258480"/>
            <a:ext cx="38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CA7A8-CC6A-472B-BF8C-37AB177B3D25}" type="slidenum">
              <a:rPr b="0" lang="en-US" sz="1200" spc="-1" strike="noStrike">
                <a:solidFill>
                  <a:srgbClr val="d7e2ee"/>
                </a:solidFill>
                <a:latin typeface="Bradley Hand ITC TT-Bold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radley Hand ITC TT-Bold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134720"/>
                <a:tab algn="l" pos="10858680"/>
              </a:tabLst>
            </a:pPr>
            <a:r>
              <a:rPr b="1" lang="en-US" sz="8400" spc="-1" strike="noStrike" u="sng">
                <a:solidFill>
                  <a:srgbClr val="d7e2ee"/>
                </a:solidFill>
                <a:uFillTx/>
                <a:latin typeface="Stone Sans ITC TT-Semi"/>
              </a:rPr>
              <a:t>It’s elemental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17160" y="3072960"/>
            <a:ext cx="426708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Elements in the same Group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7e2ee"/>
                </a:solidFill>
                <a:latin typeface="Stone Sans ITC TT-Semi"/>
              </a:rPr>
              <a:t>have similar characteristics</a:t>
            </a:r>
            <a:endParaRPr b="0" lang="en-US" sz="4800" spc="-1" strike="noStrike">
              <a:solidFill>
                <a:srgbClr val="d7e2ee"/>
              </a:solidFill>
              <a:latin typeface="Stone Sans ITC TT-Sem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4813200" y="3492360"/>
            <a:ext cx="7882200" cy="576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3-03-11T20:19:34Z</dcterms:modified>
  <cp:revision>5</cp:revision>
  <dc:subject/>
  <dc:title>Elements of the Periodic Table</dc:title>
</cp:coreProperties>
</file>